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2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938-AE41-4FDB-96B4-47DC2210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EF3-612B-4C0F-B284-06815979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99F-814C-4DEA-A9C5-CC836035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AA4-6D98-4BEC-A219-4B11BDF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493-3717-4A66-83C9-EB4573E7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0D6-AED6-4ACC-9746-99854B66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EA8-FD24-4761-8CE0-DAAFBA09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097-3A29-4643-9023-0A3760CB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B23-0EB9-48AF-9F5D-D5DF489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67-2135-4E78-B4A2-ED72C78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2DD-BDB8-48DB-A81C-344ADF0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95C-74D7-4504-89B5-51C78FD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CF8-1A75-497F-81AD-200331DE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F2C-327D-4B43-9D79-77FDB47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43CC-ABD7-4372-B5ED-867C0528E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hyperlink" Target="http://babynamesworld.parentsconnect.com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hyperlink" Target="http://www.zelo.com/firstnames/celebs.asp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9360">
            <a:solidFill>
              <a:srgbClr val="3c1a56"/>
            </a:solidFill>
            <a:miter/>
          </a:ln>
        </p:spPr>
      </p:pic>
      <p:sp>
        <p:nvSpPr>
          <p:cNvPr id="51" name="Text Box 9"/>
          <p:cNvSpPr/>
          <p:nvPr/>
        </p:nvSpPr>
        <p:spPr>
          <a:xfrm>
            <a:off x="914400" y="4843440"/>
            <a:ext cx="78487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a56"/>
                </a:solidFill>
                <a:latin typeface="Edwardian Script ITC"/>
              </a:rPr>
              <a:t>Words have meaning, but names have po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1a56"/>
                </a:solidFill>
                <a:latin typeface="Edwardian Script ITC"/>
              </a:rPr>
              <a:t>-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Author unknow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C:\Users\Owner\AppData\Local\Microsoft\Windows\Temporary Internet Files\Content.IE5\LML1ILU1\MCj04382850000[1].wmf"/>
          <p:cNvPicPr/>
          <p:nvPr/>
        </p:nvPicPr>
        <p:blipFill>
          <a:blip r:embed="rId2"/>
          <a:stretch/>
        </p:blipFill>
        <p:spPr>
          <a:xfrm>
            <a:off x="914400" y="533520"/>
            <a:ext cx="678168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43000" y="838080"/>
            <a:ext cx="6705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c1a56"/>
                </a:solidFill>
                <a:latin typeface="Edwardian Script ITC"/>
              </a:rPr>
              <a:t>Nam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114800" y="2514600"/>
            <a:ext cx="419112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3c1a56"/>
                </a:solidFill>
                <a:latin typeface="Edwardian Script ITC"/>
              </a:rPr>
              <a:t>Poem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C:\Users\Owner\AppData\Local\Microsoft\Windows\Temporary Internet Files\Content.IE5\4GR6NGX2\MCj04382950000[1].wmf"/>
          <p:cNvPicPr/>
          <p:nvPr/>
        </p:nvPicPr>
        <p:blipFill>
          <a:blip r:embed="rId3"/>
          <a:stretch/>
        </p:blipFill>
        <p:spPr>
          <a:xfrm>
            <a:off x="380880" y="2057400"/>
            <a:ext cx="3381480" cy="371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Owner\AppData\Local\Microsoft\Windows\Temporary Internet Files\Content.IE5\4GR6NGX2\MCj04382950000[1].wmf"/>
          <p:cNvPicPr/>
          <p:nvPr/>
        </p:nvPicPr>
        <p:blipFill>
          <a:blip r:embed="rId4"/>
          <a:stretch/>
        </p:blipFill>
        <p:spPr>
          <a:xfrm rot="10800000">
            <a:off x="5943240" y="304560"/>
            <a:ext cx="2063880" cy="226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C:\Users\Owner\AppData\Local\Microsoft\Windows\Temporary Internet Files\Content.IE5\4GR6NGX2\MCj04352460000[1].png"/>
          <p:cNvPicPr/>
          <p:nvPr/>
        </p:nvPicPr>
        <p:blipFill>
          <a:blip r:embed="rId2"/>
          <a:stretch/>
        </p:blipFill>
        <p:spPr>
          <a:xfrm>
            <a:off x="1371600" y="190440"/>
            <a:ext cx="7467480" cy="1866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971800" y="33480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ow, Let’s Write Our Own Name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0" descr="C:\Users\Owner\AppData\Local\Microsoft\Windows\Temporary Internet Files\Content.IE5\LML1ILU1\MCj04401930000[1].wmf"/>
          <p:cNvPicPr/>
          <p:nvPr/>
        </p:nvPicPr>
        <p:blipFill>
          <a:blip r:embed="rId3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676520" y="210492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Remember, your name poem should “LOOK”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ke a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It should contain 10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Make sure you follow the formula, but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number th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underline an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write the formula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ON’T write periods at the end of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Be creative…..your audience should know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you better after reading your name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1a56"/>
              </a:buClr>
              <a:buSzPct val="121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14400" y="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ame Poem Form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1:  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2:  Three words that describ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90720" y="1828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3:  Lover of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90720" y="22860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4:  Who feels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2895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5:  Who needs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990720" y="312408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6:  Who gives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90720" y="3809880"/>
            <a:ext cx="71625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7:  Who fears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990720" y="46483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8:  Who would like to see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990720" y="52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9:  Resident of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990720" y="585324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Line 10: 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http://sciencetvworkshop.com/images/test_tubes.jpg"/>
          <p:cNvPicPr/>
          <p:nvPr/>
        </p:nvPicPr>
        <p:blipFill>
          <a:blip r:embed="rId2"/>
          <a:stretch/>
        </p:blipFill>
        <p:spPr>
          <a:xfrm>
            <a:off x="7162920" y="2133720"/>
            <a:ext cx="1692000" cy="169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20" descr="C:\Users\Owner\AppData\Local\Microsoft\Windows\Temporary Internet Files\Content.IE5\LML1ILU1\MCj04401930000[1].wmf"/>
          <p:cNvPicPr/>
          <p:nvPr/>
        </p:nvPicPr>
        <p:blipFill>
          <a:blip r:embed="rId3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93880" y="8380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have five minutes to brainstorm the following things. Keep writing the entir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Arial"/>
              </a:rPr>
              <a:t>The best vacation you have ever taken, or your dream va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893880" y="838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onflict you have h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893880" y="838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r biggest strength, and your biggest weak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893880" y="8380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you want this school year to be differ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4400" y="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Brainstorm the follow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893880" y="838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choi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871720" y="2973240"/>
            <a:ext cx="6858000" cy="911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75680" y="4952880"/>
            <a:ext cx="9448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What's in a name?  That which we call a rose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by any other name would smell as sweet.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William Shakespeare, </a:t>
            </a:r>
            <a:r>
              <a:rPr b="1" i="1" lang="en-US" sz="2400" spc="-1" strike="noStrike">
                <a:solidFill>
                  <a:srgbClr val="3c1a56"/>
                </a:solidFill>
                <a:latin typeface="Edwardian Script ITC"/>
              </a:rPr>
              <a:t>Romeo and Juliet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MCj04348420000[1]"/>
          <p:cNvPicPr/>
          <p:nvPr/>
        </p:nvPicPr>
        <p:blipFill>
          <a:blip r:embed="rId2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7621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Think about you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8580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Are you proud of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981080" y="18288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Are you named after someone, maybe a family member or a friend?</a:t>
            </a:r>
            <a:r>
              <a:rPr b="0" lang="en-US" sz="1800" spc="-1" strike="noStrike">
                <a:solidFill>
                  <a:srgbClr val="3c1a5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752480" y="33526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If you could choose a different name, what would i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:\Users\Owner\AppData\Local\Microsoft\Windows\Temporary Internet Files\Content.IE5\LML1ILU1\MCj04379720000[1].wmf"/>
          <p:cNvPicPr/>
          <p:nvPr/>
        </p:nvPicPr>
        <p:blipFill>
          <a:blip r:embed="rId3"/>
          <a:stretch/>
        </p:blipFill>
        <p:spPr>
          <a:xfrm rot="5400000">
            <a:off x="-1019520" y="4467240"/>
            <a:ext cx="371484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C:\Users\Owner\AppData\Local\Microsoft\Windows\Temporary Internet Files\Content.IE5\LML1ILU1\MCj04379720000[1].wmf"/>
          <p:cNvPicPr/>
          <p:nvPr/>
        </p:nvPicPr>
        <p:blipFill>
          <a:blip r:embed="rId4"/>
          <a:stretch/>
        </p:blipFill>
        <p:spPr>
          <a:xfrm rot="5400000">
            <a:off x="-1019520" y="1324080"/>
            <a:ext cx="3714840" cy="1066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-29880" y="5562720"/>
            <a:ext cx="115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Good men must die, but death cannot kill their na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Pro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19320" y="3808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1a56"/>
                </a:solidFill>
                <a:latin typeface="Curlz MT"/>
              </a:rPr>
              <a:t>Let’s Explore the Meanings of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85800" y="1143000"/>
            <a:ext cx="84582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ason – to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arah – lady; prin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Reggie –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Adam – man;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Brianna – noble, strong, 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aniel – God is my j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amantha -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C:\Users\Owner\AppData\Local\Microsoft\Windows\Temporary Internet Files\Content.IE5\LML1ILU1\MCj04370380000[1].wmf"/>
          <p:cNvPicPr/>
          <p:nvPr/>
        </p:nvPicPr>
        <p:blipFill>
          <a:blip r:embed="rId2"/>
          <a:stretch/>
        </p:blipFill>
        <p:spPr>
          <a:xfrm rot="16200000">
            <a:off x="-2552400" y="2933640"/>
            <a:ext cx="6858000" cy="990720"/>
          </a:xfrm>
          <a:prstGeom prst="rect">
            <a:avLst/>
          </a:prstGeom>
          <a:ln w="0">
            <a:noFill/>
          </a:ln>
        </p:spPr>
      </p:pic>
      <p:grpSp>
        <p:nvGrpSpPr>
          <p:cNvPr id="75" name="Action Button: Information 24"/>
          <p:cNvGrpSpPr/>
          <p:nvPr/>
        </p:nvGrpSpPr>
        <p:grpSpPr>
          <a:xfrm>
            <a:off x="7669080" y="3932280"/>
            <a:ext cx="1200240" cy="1352520"/>
            <a:chOff x="7669080" y="3932280"/>
            <a:chExt cx="1200240" cy="1352520"/>
          </a:xfrm>
        </p:grpSpPr>
        <p:pic>
          <p:nvPicPr>
            <p:cNvPr id="76" name="Action Button: Information 2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669080" y="3932280"/>
              <a:ext cx="1200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696080" y="3962520"/>
              <a:ext cx="1143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895480" y="5181480"/>
            <a:ext cx="594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From our ancestors come our na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but from our virtues our honors”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Proverb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Name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828800" y="838080"/>
            <a:ext cx="7010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Many people change their name when they go into the entertainment indus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There are several reasons for choosing a stage name instead of using your birth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Often names are changed because they don't have the right sound, they are too hard to pronounce, or they are thought to be too plain and ordin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c1a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1a56"/>
                </a:solidFill>
                <a:latin typeface="Arial"/>
              </a:rPr>
              <a:t>Sometimes people wish to conceal their family origi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4GR6NGX2\MCj04370360000[1].wmf"/>
          <p:cNvPicPr/>
          <p:nvPr/>
        </p:nvPicPr>
        <p:blipFill>
          <a:blip r:embed="rId2"/>
          <a:stretch/>
        </p:blipFill>
        <p:spPr>
          <a:xfrm rot="16200000">
            <a:off x="-2514240" y="2895480"/>
            <a:ext cx="6858000" cy="10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Owner\AppData\Local\Microsoft\Windows\Temporary Internet Files\Content.IE5\LML1ILU1\MPj03877590000[1].jpg"/>
          <p:cNvPicPr/>
          <p:nvPr/>
        </p:nvPicPr>
        <p:blipFill>
          <a:blip r:embed="rId3"/>
          <a:stretch/>
        </p:blipFill>
        <p:spPr>
          <a:xfrm>
            <a:off x="3200400" y="4890960"/>
            <a:ext cx="1239840" cy="17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752480" y="560700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“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The beginning of wisdom is to call things by their right names”</a:t>
            </a:r>
            <a:br>
              <a:rPr sz="3200"/>
            </a:b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	</a:t>
            </a:r>
            <a:r>
              <a:rPr b="1" lang="en-US" sz="3200" spc="-1" strike="noStrike">
                <a:solidFill>
                  <a:srgbClr val="3c1a56"/>
                </a:solidFill>
                <a:latin typeface="Edwardian Script ITC"/>
              </a:rPr>
              <a:t>   </a:t>
            </a:r>
            <a:r>
              <a:rPr b="1" lang="en-US" sz="2400" spc="-1" strike="noStrike">
                <a:solidFill>
                  <a:srgbClr val="3c1a56"/>
                </a:solidFill>
                <a:latin typeface="Edwardian Script ITC"/>
              </a:rPr>
              <a:t>~Chinese Proverb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62120" y="763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1a56"/>
                </a:solidFill>
                <a:latin typeface="Curlz MT"/>
              </a:rPr>
              <a:t>Celebrity N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85800" y="112536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ennifer Anniston – Jennifer Anastass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50 Cent – Curtis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Miley Cyrus – Destiny Hope Cy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Snoop Dog – Cordazer Calvin Broa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The Rock – Dwayne Douglas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Dr. Seuss – Theodore Seuss Gei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Tina Turner – Anna Mae Bul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1a56"/>
                </a:solidFill>
                <a:latin typeface="Arial"/>
              </a:rPr>
              <a:t>Jamie Foxx – Eric Bi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C:\Users\Owner\AppData\Local\Microsoft\Windows\Temporary Internet Files\Content.IE5\WO12WW8G\MCj04371640000[1].wmf"/>
          <p:cNvPicPr/>
          <p:nvPr/>
        </p:nvPicPr>
        <p:blipFill>
          <a:blip r:embed="rId2"/>
          <a:stretch/>
        </p:blipFill>
        <p:spPr>
          <a:xfrm rot="16200000">
            <a:off x="-2590560" y="2895480"/>
            <a:ext cx="6858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93" name="Action Button: Information 8"/>
          <p:cNvGrpSpPr/>
          <p:nvPr/>
        </p:nvGrpSpPr>
        <p:grpSpPr>
          <a:xfrm>
            <a:off x="7742160" y="4164120"/>
            <a:ext cx="1200240" cy="1199880"/>
            <a:chOff x="7742160" y="4164120"/>
            <a:chExt cx="1200240" cy="1199880"/>
          </a:xfrm>
        </p:grpSpPr>
        <p:pic>
          <p:nvPicPr>
            <p:cNvPr id="94" name="Action Button: Information 8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742160" y="4164120"/>
              <a:ext cx="12002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77240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http://silentopinion.files.wordpress.com/2008/07/jennifer_aniston.jpg"/>
          <p:cNvPicPr/>
          <p:nvPr/>
        </p:nvPicPr>
        <p:blipFill>
          <a:blip r:embed="rId5"/>
          <a:stretch/>
        </p:blipFill>
        <p:spPr>
          <a:xfrm>
            <a:off x="7620120" y="1523880"/>
            <a:ext cx="1349280" cy="13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http://www.topnews.in/files/Jamie_Foxx.jpg"/>
          <p:cNvPicPr/>
          <p:nvPr/>
        </p:nvPicPr>
        <p:blipFill>
          <a:blip r:embed="rId6"/>
          <a:stretch/>
        </p:blipFill>
        <p:spPr>
          <a:xfrm>
            <a:off x="685800" y="4267080"/>
            <a:ext cx="1378080" cy="13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6" descr="http://image.examiner.com/images/blog/wysiwyg/image/miley_cyrus(3).jpg"/>
          <p:cNvPicPr/>
          <p:nvPr/>
        </p:nvPicPr>
        <p:blipFill>
          <a:blip r:embed="rId7"/>
          <a:stretch/>
        </p:blipFill>
        <p:spPr>
          <a:xfrm>
            <a:off x="685800" y="1682640"/>
            <a:ext cx="1197000" cy="167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581280" y="4952880"/>
            <a:ext cx="5334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Nicknames stick to people, and the most ridiculous are the most adhe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 </a:t>
            </a:r>
            <a:r>
              <a:rPr b="1" lang="en-US" sz="2800" spc="-1" strike="noStrike">
                <a:solidFill>
                  <a:srgbClr val="3c1a56"/>
                </a:solidFill>
                <a:latin typeface="Edwardian Script ITC"/>
              </a:rPr>
              <a:t>- Thomas C. Halibu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52280" y="3808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Hullygu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57200" y="16002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Mudp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0" y="2666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Pocket M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80880" y="3733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1a56"/>
                </a:solidFill>
                <a:latin typeface="Curlz MT"/>
              </a:rPr>
              <a:t>Stargi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MCj02378370000[1]"/>
          <p:cNvPicPr/>
          <p:nvPr/>
        </p:nvPicPr>
        <p:blipFill>
          <a:blip r:embed="rId2"/>
          <a:stretch/>
        </p:blipFill>
        <p:spPr>
          <a:xfrm>
            <a:off x="5791320" y="3048120"/>
            <a:ext cx="259056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:\Users\Owner\AppData\Local\Microsoft\Windows\Temporary Internet Files\Content.IE5\WO12WW8G\MCj04371670000[1].wmf"/>
          <p:cNvPicPr/>
          <p:nvPr/>
        </p:nvPicPr>
        <p:blipFill>
          <a:blip r:embed="rId3"/>
          <a:stretch/>
        </p:blipFill>
        <p:spPr>
          <a:xfrm rot="16200000">
            <a:off x="-2525400" y="2906640"/>
            <a:ext cx="6858000" cy="1044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1"/>
          <p:cNvSpPr/>
          <p:nvPr/>
        </p:nvSpPr>
        <p:spPr>
          <a:xfrm>
            <a:off x="5943600" y="102060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1a56"/>
                </a:solidFill>
                <a:latin typeface="Arial"/>
              </a:rPr>
              <a:t>Do you have a nick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048120" y="228600"/>
            <a:ext cx="59436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C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short, compassionate, fun-l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Lover of stand-up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feels excited about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needs to feel l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gives her all to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fears clow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Who would like to see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Resident of Antioch, 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Comic Sans MS"/>
              </a:rPr>
              <a:t>A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592000" y="2973240"/>
            <a:ext cx="6858000" cy="91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csmoody.files.wordpress.com/2009/03/clowns.jpg"/>
          <p:cNvPicPr/>
          <p:nvPr/>
        </p:nvPicPr>
        <p:blipFill>
          <a:blip r:embed="rId3"/>
          <a:stretch/>
        </p:blipFill>
        <p:spPr>
          <a:xfrm>
            <a:off x="304920" y="3722760"/>
            <a:ext cx="2819160" cy="206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0" y="139680"/>
            <a:ext cx="78487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Bev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talkative, energetic,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Lover of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feels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needs mor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gives her bes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fears spiders and sn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Who would like to see every child in a loving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Resident of a wonderfu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Brush455 BT"/>
              </a:rPr>
              <a:t>Br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4875120" y="2973240"/>
            <a:ext cx="6858000" cy="9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maxelindustries.com/images/bigstockphoto_happy_children_1375713.jpg"/>
          <p:cNvPicPr/>
          <p:nvPr/>
        </p:nvPicPr>
        <p:blipFill>
          <a:blip r:embed="rId3"/>
          <a:stretch/>
        </p:blipFill>
        <p:spPr>
          <a:xfrm>
            <a:off x="5943600" y="1371600"/>
            <a:ext cx="2908440" cy="19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ircl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438280" y="228600"/>
            <a:ext cx="6477120" cy="74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hairy, big mouthed, fero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Lover of barbeque and 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feels hu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needs a good m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gives huffs and pu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fears brick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Who would like to see a smorgasb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Resident of the 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1a56"/>
                </a:solidFill>
                <a:latin typeface="Americana BT"/>
              </a:rPr>
              <a:t>Bad 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C:\Users\Owner\AppData\Local\Microsoft\Windows\Temporary Internet Files\Content.IE5\LML1ILU1\MCj04401930000[1].wmf"/>
          <p:cNvPicPr/>
          <p:nvPr/>
        </p:nvPicPr>
        <p:blipFill>
          <a:blip r:embed="rId2"/>
          <a:stretch/>
        </p:blipFill>
        <p:spPr>
          <a:xfrm rot="16200000">
            <a:off x="-2744640" y="2973240"/>
            <a:ext cx="6858000" cy="911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ttp://www.logoi.com/pastimages/img/big_bad_wolf_4.jpg"/>
          <p:cNvPicPr/>
          <p:nvPr/>
        </p:nvPicPr>
        <p:blipFill>
          <a:blip r:embed="rId3"/>
          <a:stretch/>
        </p:blipFill>
        <p:spPr>
          <a:xfrm>
            <a:off x="365040" y="1219320"/>
            <a:ext cx="2627280" cy="678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0:59:34Z</dcterms:created>
  <dc:creator>bcarnahan</dc:creator>
  <dc:description/>
  <dc:language>en-US</dc:language>
  <cp:lastModifiedBy>Angie McCall</cp:lastModifiedBy>
  <dcterms:modified xsi:type="dcterms:W3CDTF">2013-08-20T15:26:20Z</dcterms:modified>
  <cp:revision>44</cp:revision>
  <dc:subject/>
  <dc:title>Slide 1</dc:title>
</cp:coreProperties>
</file>